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9A1-54D6-4C01-A3CB-978A2CF4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755-FF50-48E0-B6F6-7D890AC7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D12F8-852D-413B-8F61-E1AB9D2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D386-8F5C-443C-B605-874F4D62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7C4CB-8B3C-4FD2-902A-F6D9C6C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2787A-9022-49A0-B156-3DC5302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9010B-550D-41CB-A991-D49E27D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90EA8-703F-4D3E-B9AC-9EAE583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CB21-987B-4583-BB9F-6196C495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3AFE-67F5-40E0-8BE6-CA6B8F1E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27D40-0CCF-46AC-B501-ECE14A83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04A2C-61CA-49FF-B6A8-6B182F02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A56-7169-4C6E-B4C4-D45079AA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67264-943D-4CFA-86BE-E8DDB5BB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363F0-8536-4AD6-879F-379D2308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6830-F572-4B6A-AF3A-A0E2E4A1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1039C-091D-4719-8843-48232D7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6D875-EF89-43EF-A332-5FF69C4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9730-7222-4F17-A3CE-47696FE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39F42-D4DC-4F47-903D-4DAF70C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7F5E7-B883-4C74-AB72-7AD0EEC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68C19-82FD-4D10-A4AE-7D60FD6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BAC43-453F-482B-9659-9C61AB8E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D3D-D9EA-4251-861D-B2518920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E0700-209E-48B5-BDA8-8078642C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808D7-15A1-4023-88A6-C444022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0EA53-B958-430F-A15D-0978644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DD00-CB07-4CFF-829F-B655CB4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0D20-0C21-4149-A804-A0C212E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03DFF-009B-4DEE-8176-C7C5D174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83FED-A8FC-41A0-A361-D6420FE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A57F2-588A-42EE-8982-CC47707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92C8D-1AD8-4F52-AB3F-3AE3CBFF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188BD-FF39-4270-A9E9-7BDE909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77DD-AAAF-4B70-A507-BF36E9E1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35D09-F0E5-4A47-A97B-0E25A82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9D895-1B13-4067-85D5-9A199F1E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61BCF-D304-438E-9C3C-5293F458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02F3F-9E50-4591-B76E-D0E12423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07970-C800-4FA3-A170-B7D61E3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F6165-BF8A-4300-9854-397A7DD3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F6A27-E7E2-419F-ABBB-214BC32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1F5C7-FB73-42C3-9CC9-04CC9DD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8B36B-3C1E-42F7-B4C1-4C01C1D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78599-9CF3-42CE-A02D-B1E6DB78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269-C805-4008-A15B-36FAF628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9442F-739C-4127-8496-21A48FF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7B629-C51A-4746-A1D8-FEE3C5D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67272-818B-45C7-B3FA-928B6DE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95CB6-02FC-48B1-9F2F-47C40398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045DB-A5F2-4299-AC5C-07D3477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B78-2770-4148-89D9-B33E14A8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5A0E-351B-448E-9FA5-9C201EB8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C81-FC78-4DA6-895F-6BA49810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770-22BE-45A5-B614-3B2226F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E519-EF19-46B5-9541-9124A16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93F-6B7E-4BBA-B38C-D4A915D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2BB-13E8-430A-9168-AFFBC33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06AA-96E7-4173-B92E-84D25F6C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2A1B-7D72-4F9D-8570-69EFE72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D3D2-2E8B-4C57-8353-A98D32E0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91F-B827-4DB8-8B33-87D78BD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412F-C207-41F2-B3E0-E1C1DB00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83FE-4007-4DB0-A33D-BCCC3A2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470D-8CCC-408F-A09D-BD2E315A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E218-B2C3-4774-8EE7-639D4CC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E368-8939-44E6-AE83-28B9AAE2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790-2461-4CAE-A4B9-A867065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D54D-2B75-4904-BDCD-25412AB3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E6AF-F6D4-4442-94B9-D8537AD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E00D-BAFE-4F33-9D30-07D37A4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9A08-EB5A-4104-A56C-27FE2A3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9F09-8FA7-4220-84F4-0C09EFB2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5E46-B3FA-4054-A27C-DD95B4DB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B33F-2B17-427D-BAA2-50E8C03D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01A2-ECFD-4716-A1C0-F9CC0B5F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6014-4392-4674-9D59-BF794F91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727C-A2F7-4BC0-8501-724A2B85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594-0BE7-4C26-90A0-CC3C61F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97E2-3FA2-4722-8A8E-3E1B325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7235-830A-4E5E-B736-0FD820D6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3B34-2127-4174-B219-C70DB0F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D708-7850-4720-B4B8-1E7A6E5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F1DC-2D5B-4693-86E8-FE3E43E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D9E5-9082-4C51-B20A-9C57A37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CD99-1679-401C-8B46-3CFEAB5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A600-B012-4AB3-9034-445E4716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676C-8107-4DCA-A8D1-3ED11CA0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9BEC-B633-4E59-8F97-660A9791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A58-1371-4853-A206-221F53E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6ABA-1DCD-48E5-A738-682C251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D153-7187-4730-89E4-93B48710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2B3C-44C3-40FA-B44D-FA615EC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F8BF-E6E7-41D9-938F-DDA6424B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236D-F04B-4909-8082-A629399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C885-B1F4-4A74-8FE5-30A01DE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0A1F-9044-4DA7-B85D-1FC14185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CAC46-48C9-42B9-9AEF-08B5D61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C54E-478F-4AD7-A8A5-86501F3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BF7F-3059-4BB5-94A3-8E1CB7CF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152-9148-41B3-89FC-DC07E7C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56C3-92E0-4F65-8409-6874A52E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42E1D-1481-4559-A23C-71D49EC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7A7D-3F65-4172-9077-17C6D139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45F7-8219-4BFB-BBD2-787B0D2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EC93-0D7D-4273-AEED-8CA10431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5524-33CD-4678-B5E4-F565E2E4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2328-42AE-409A-88C8-E36A0CA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0716-9E55-4D3A-A028-17DAAB3E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671B-7A39-4E8A-9313-5E61AF4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AB2E-6412-4804-BB0E-99BDA8F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695-995E-4072-8058-76857FC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1493-59EF-4E34-9D4F-B6FD0B3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347CE-6E36-42A9-961D-82B43E06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2AAF-925F-41D2-A6D7-C80723F9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D19B-30AA-4606-AE80-6EB3245C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599D-8BD3-413E-A210-42E15EFE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71086-62BC-40E8-AC75-4642F26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25FE-EEAD-48E5-8F34-ADFB683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DE7D-BDBC-491F-ABC3-0184C9C9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0DB29-F6E3-4581-9B3E-81D8B3E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0E3E-9CFF-4F5D-8052-D38A8345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97B-88D3-4468-915A-1A32049C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3BBB-336C-404E-A859-F490161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CF20D-4D3B-49B6-950A-CC8FA54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461A-A1BF-4CCC-81A3-4D0234E0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9F95-8E80-4CC0-9E4B-454D5AF2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B688-9EDF-444B-A642-07A2507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6C5F2-9A76-4670-87F8-E6087BA4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BE7D-BC94-490F-9719-386AD7C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452C-C0B7-45F1-8273-C87BB5C4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C124B-9A21-4492-A97A-51D65C06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106B3-4239-4EE1-A6E4-4D79393C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380-06A9-465D-9FCE-3D7F727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7F642-6D88-44C5-A4C7-F31A502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F73F4-72BB-4CE0-A8E2-5E8F83E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D998-63E9-4691-B042-CF08D7A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1919-BFED-4ACC-93DF-C051C7F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AE533-8857-4673-AAA8-DF9F08E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B2B0-0720-4726-BB0A-49D71883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1EAD-1D3A-4E02-8955-C73B1DEF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2B996-AB15-4943-A532-AE07D38E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72E4-17E6-4A80-A4D9-4CBE724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3161-5024-456F-A954-F205CA30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E2B-B0DC-406B-95B0-83F989B3D9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478-DF25-4D1D-9245-A7B56AF37D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BC0-6AED-4FE8-8CA0-50305279B6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598-8C29-4ADD-9602-A019529C06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76C-C4F1-463C-8CBB-257EC9E7F6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1E1-62E2-4647-9495-6C163D2B30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50B6-5A40-4A50-8C2A-9C30ED29FA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3C8-FF75-4C24-92F2-9CD7FFCA52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A069-360A-4737-8865-A8FF9E6E82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B451-6D0F-40BB-8DE8-4E1A8A69A0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B47-81C8-40A5-8062-B812F0811B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A30-9225-4996-87D7-C8EFA1315C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 Svätý, svätý,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všemohú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chvály vznáša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 kraľujúci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láskavý Otec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ca n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chvatné chó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tebe, Vševlád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ch svetov tvo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 v úc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a sklá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trojjedi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ľu náš a Záchran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jný v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y hlas prij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tvoj ťa vzý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ňou vďač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4-01-03T17:50:07Z</dcterms:modified>
  <cp:revision>9</cp:revision>
  <dc:subject/>
  <dc:title>Je veľký náš Pán, on slávy je Kráľ Nech do všetkých strán  spev vrúcnych znie chvál.</dc:title>
</cp:coreProperties>
</file>